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F102-772A-4547-9FAB-419848C71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(&#1086;&#1073;&#1088;&#1072;&#1079;&#1086;&#1074;&#1072;&#1085;&#1080;&#1077;)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slide" Target="../slides/slide7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slide" Target="../slides/slide8.xml"/><Relationship Id="rId5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(&#1101;&#1082;&#1086;&#1085;&#1086;&#1084;&#1080;&#1082;&#1072;)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3473-E437-4B8E-814E-BC826499B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капитализ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3291-E9C1-4043-8C96-849905E2E8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622F-0DBD-4C9C-9ECF-0E55A59B2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F4C8-257F-4C24-A9B1-880C5052AC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экономический рост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12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12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эффективности и производительности в эконом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4320-19BB-4266-B7C1-13A58908FA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E08F-5A5A-4C96-8353-5182F66E87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5055-1886-4F0C-8E5F-FA0DAD459E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3287-6900-498A-83A5-A320A9261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6CA6-7026-4FE9-9425-AB5444FC8C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9702-6458-4B6D-8787-9B99B7E10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C8BB-8A59-486B-A650-A953153D82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18F2-9B01-4C6A-B133-2A47A8ADC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4124-1CB2-4F98-A7A3-C4F4D2E1C0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FD9C-BCCD-4FA4-B4B9-C21B91900E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7924-B535-4242-8C52-70C4E69572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EF5A-2572-4740-A388-54E6F4213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9743-A936-4A2C-A30E-DEE0CD336F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4E1A-4555-43F5-92F4-1AE090EC7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4ED9-C7A1-4B6C-A589-A8530FAC49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B973-972D-4F4E-9793-7C40AAF35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44E-C145-46E6-9677-EEC69AA1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337-A3A9-47D9-9BB8-5E93310C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875-9093-474F-8CE2-606F5125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384-C2DA-410D-BE61-B42AA368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ACE-9197-4A16-96B5-EE7E0E44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086-514D-4A00-A831-3F266F07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357-EB6F-4D90-8998-34F818FF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348-FDF7-4A58-87F6-EC55A3D3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387-9A4E-41F0-B01A-4145EB44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83B-A3BC-49E9-BEB2-93DD789B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E1A-370A-4028-89D3-6A001F81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3FC8-A9D0-41DD-B32B-5E25986C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88E5-BFEC-4CB5-AE6F-8B3562BEA04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A0D4-1E85-4D9D-85F2-2EBA4745B8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72;&#1087;&#1080;&#1090;&#1072;&#1083;&#1080;&#1079;&#1084;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2;&#1086;&#1085;&#1086;&#1084;&#1080;&#1095;&#1077;&#1089;&#1082;&#1080;&#1081;_&#1088;&#1086;&#1089;&#1090;" TargetMode="External"/><Relationship Id="rId2" Type="http://schemas.openxmlformats.org/officeDocument/2006/relationships/hyperlink" Target="http://ru.wikipedia.org/wiki/&#1069;&#1082;&#1086;&#1085;&#1086;&#1084;&#1080;&#1095;&#1077;&#1089;&#1082;&#1072;&#1103;_&#1101;&#1092;&#1092;&#1077;&#1082;&#1090;&#1080;&#1074;&#1085;&#1086;&#1089;&#1090;&#1100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7;&#1077;&#1089;&#1090;&#1074;&#1086;" TargetMode="External"/><Relationship Id="rId2" Type="http://schemas.openxmlformats.org/officeDocument/2006/relationships/hyperlink" Target="http://ru.wikipedia.org/wiki/&#1057;&#1086;&#1073;&#1089;&#1090;&#1074;&#1077;&#1085;&#1085;&#1086;&#1089;&#1090;&#1100;" TargetMode="External"/><Relationship Id="rId3" Type="http://schemas.openxmlformats.org/officeDocument/2006/relationships/hyperlink" Target="http://ru.wikipedia.org/wiki/&#1044;&#1077;&#1085;&#1077;&#1078;&#1085;&#1099;&#1081;_&#1088;&#1099;&#1085;&#1086;&#1082;" TargetMode="External"/><Relationship Id="rId4" Type="http://schemas.openxmlformats.org/officeDocument/2006/relationships/hyperlink" Target="http://ru.wikipedia.org/wiki/&#1056;&#1099;&#1085;&#1086;&#1082;_&#1094;&#1077;&#1085;&#1085;&#1099;&#1093;_&#1073;&#1091;&#1084;&#1072;&#1075;" TargetMode="External"/><Relationship Id="rId5" Type="http://schemas.openxmlformats.org/officeDocument/2006/relationships/hyperlink" Target="http://ru.wikipedia.org/wiki/&#1052;&#1072;&#1082;&#1088;&#1086;&#1101;&#1082;&#1086;&#1085;&#1086;&#1084;&#1080;&#1082;&#1072;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2;&#1073;&#1086;&#1095;&#1072;&#1103;_&#1089;&#1080;&#1083;&#1072;" TargetMode="External"/><Relationship Id="rId2" Type="http://schemas.openxmlformats.org/officeDocument/2006/relationships/hyperlink" Target="http://ru.wikipedia.org/wiki/&#1050;&#1074;&#1072;&#1083;&#1080;&#1092;&#1080;&#1082;&#1072;&#1094;&#1080;&#1103;_%28&#1086;&#1073;&#1088;&#1072;&#1079;&#1086;&#1074;&#1072;&#1085;&#1080;&#1077;%29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58;&#1088;&#1091;&#1076;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4;&#1080;&#1072;&#1083;&#1100;&#1085;&#1099;&#1081;_&#1080;&#1085;&#1089;&#1090;&#1080;&#1090;&#1091;&#1090;" TargetMode="External"/><Relationship Id="rId2" Type="http://schemas.openxmlformats.org/officeDocument/2006/relationships/hyperlink" Target="http://ru.wikipedia.org/wiki/&#1047;&#1072;&#1082;&#1086;&#1085;_&#1089;&#1087;&#1088;&#1086;&#1089;&#1072;_&#1080;_&#1087;&#1088;&#1077;&#1076;&#1083;&#1086;&#1078;&#1077;&#1085;&#1080;&#1103;" TargetMode="External"/><Relationship Id="rId3" Type="http://schemas.openxmlformats.org/officeDocument/2006/relationships/hyperlink" Target="http://ru.wikipedia.org/wiki/&#1047;&#1072;&#1088;&#1072;&#1073;&#1086;&#1090;&#1085;&#1072;&#1103;_&#1087;&#1083;&#1072;&#1090;&#1072;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5;&#1082;&#1091;&#1088;&#1077;&#1085;&#1094;&#1080;&#1103;_%28&#1101;&#1082;&#1086;&#1085;&#1086;&#1084;&#1080;&#1082;&#1072;%29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3357720"/>
            <a:ext cx="7772400" cy="125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35b40"/>
                </a:solidFill>
                <a:latin typeface="Arial Black"/>
              </a:rPr>
              <a:t>Рынок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4797000"/>
            <a:ext cx="64008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Модель монополии и монопс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7120" y="1071360"/>
            <a:ext cx="850104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зачастую является самым точным детектором социального положения населения той или иной страны. Возникновение рынка труда связано со становлением рыночных отношений и развитие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апитализ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рос на рынке труда зависит от положения дел на товарных рынках. Поэтому кадровый заказ формируется не только государством, но и предприятиями, отраслями.  В условиях рынка труда  отрасли и предприятия будут определять как текущие потребности в кадрах, так и перспективные, а также содержание профессионального труда, его черты и особ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357120" y="1000080"/>
            <a:ext cx="82868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ая школа вынуждена реагировать на конъюнктуру рынка труда: разрабатываются новые образовательные стандарты изменяется структура, спектр профессий и специаль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до настоящего времени необходимого баланса между спросом на профессии со стороны работодателей и предложением со стороны выпускников профессиональных школ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е 50% выпускников после окончания учебного заведения оказываются невостребованными и вынуждены работать не по специальности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2"/>
          <p:cNvSpPr/>
          <p:nvPr/>
        </p:nvSpPr>
        <p:spPr>
          <a:xfrm>
            <a:off x="428760" y="10288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ование занятости в современных условиях должно обеспечиваться не закрепляемостью за работниками конкретного рабочего места, а созданием условий для непрерывного роста квалификаций и профессионального мастерства. Именно это будет способствовать решению проблемы регулирования занятости населения. В дальнейшем для молодых людей в соответствии с их трудолюбием, способностями и профессиональной подготовкой будут открываться дополнительные перспективы освоения еще более сложных и престиж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бильность трудовых ресурсов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4200" y="1000080"/>
            <a:ext cx="8715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— один из важнейших параметров, при которых возможен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экономический р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экономике вообще. Мобильность трудовых ресурсов характеризуется реальными возможностями работников и их семей переехать в другие местности для выбора места проживания, где они могут иметь более выгодные предложения по найму</a:t>
            </a: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.(Территориаль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c8c93"/>
                </a:solidFill>
                <a:uFillTx/>
                <a:latin typeface="Arial"/>
              </a:rPr>
              <a:t>Профессиональная </a:t>
            </a:r>
            <a:r>
              <a:rPr b="0" lang="ru-RU" sz="2400" spc="-1" strike="noStrike">
                <a:solidFill>
                  <a:srgbClr val="3c8c9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человека овладевать разными профессиями и переучиваться в течение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2bfc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мобильность трудовых ресурсов способствует более высок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эффектив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оизводительности в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в России имеет ряд особенностей по сравнению с рынками труда других развитых государ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йский рынок труда ещё не до конца сформир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менталитета россиян, климатическими особенностями и большой территорией россияне не отличаются моби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фициальным данным в России низкий уровень безработицы, хотя безработица имеет теневые формы, иногда безработица имеет скрытые формы, когда, например, работник переводится на 0,1 ставки (формально это человек имеющий работу, но реально 1/10 часть оплаты труда не позволяет содержать себя и семью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дение предприятий приводит к тому, что состояние рынка труда не позволяет говорит о высокой эффективности. Гонка правительства за социальной стабильностью приводит к тому, что работу сохраняют низкоэффективные работники, что приводит к серьезным проблемам с производительностью труда. Происходит резервирование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 в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низкий уровень оплаты труда, что приводит к низкой производительност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ий средний уровень качества и гибкости образования приводит к высокому уровню безработицы и низкому уровню оплаты труда квалифицированных кад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тру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это рынок, где продают и покупают рабочую силу, не в прямом физическом смысле, а силу как способность к определенному виду труда.           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сть труда как товара связана с тем, что человек способен овладеть разными профессиями и переучиваться в течение жизн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ые навыки любого рода приобретают ценность для общества и превращаются в интересующий рынок товаров только в том случае, если есть спрос на товары и услуги, для изготовления которых нужны эти навы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ь монопс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уация, возникающая на рынке при наличии только одного покупателя, который в силу  своего исключительного положения может диктовать всем продавцам условия приобретения этих товаров , и прежде всего их це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это наиболее эффективный инструмент развития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собенность рынка заключается в его способности к саморегулированию. Поскольку производители, учитывая спрос потребителей, решают, что и сколько произво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е функционирования рынка лежит конкуренция. Она является основным мотивом, побуждающим предприятие к борьбе за место на рынке. На рынке, где встречается потребитель и производитель, происходит уравновешивание спроса и предложения това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г"/>
          <p:cNvPicPr/>
          <p:nvPr/>
        </p:nvPicPr>
        <p:blipFill>
          <a:blip r:embed="rId1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г"/>
          <p:cNvPicPr/>
          <p:nvPr/>
        </p:nvPicPr>
        <p:blipFill>
          <a:blip r:embed="rId2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житочный минимум (1че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214280"/>
          <a:ext cx="8229600" cy="3978360"/>
        </p:xfrm>
        <a:graphic>
          <a:graphicData uri="http://schemas.openxmlformats.org/drawingml/2006/table">
            <a:tbl>
              <a:tblPr/>
              <a:tblGrid>
                <a:gridCol w="1757520"/>
                <a:gridCol w="1535040"/>
                <a:gridCol w="1644480"/>
                <a:gridCol w="1646280"/>
                <a:gridCol w="16462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 бул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р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итер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8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5"/>
          <p:cNvSpPr/>
          <p:nvPr/>
        </p:nvSpPr>
        <p:spPr>
          <a:xfrm>
            <a:off x="785880" y="564372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делать расчет на свою сем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, даже если не имеем дачи, машины и приватизированной кварти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мы собственники своего труда и можем продать его тому, кто в нем нуждается. Таким образом, формируется рынок труда, который похож на другие рынки товаров и услуг, но есть и важные особен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071360"/>
            <a:ext cx="850104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социально-трудовых отношений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обществ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поводу найма и использования работников в сфере общественного производства, обусловленная многообразием форм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обствен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еоднородностью рабочей силы и интересов субъектов производства.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ок труда наряду с рынком благ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ынком дене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рынком ценных бум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ходит в фундаментальные совокупные макрорынки, которые изучаются учеными-экономистами в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макроэконом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экономика страны, региона, группы стра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г"/>
          <p:cNvPicPr/>
          <p:nvPr/>
        </p:nvPicPr>
        <p:blipFill>
          <a:blip r:embed="rId6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г"/>
          <p:cNvPicPr/>
          <p:nvPr/>
        </p:nvPicPr>
        <p:blipFill>
          <a:blip r:embed="rId7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купли-продажи на нем является право на использование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абочей си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наний,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квалиф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способностей к трудовому процес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E:\Мои документы\Анимационные картинки для презентаций. Часть 2\Люди\688eefce77194fac99ba5bb0fb6fb63a.gif"/>
          <p:cNvPicPr/>
          <p:nvPr/>
        </p:nvPicPr>
        <p:blipFill>
          <a:blip r:embed="rId5"/>
          <a:stretch/>
        </p:blipFill>
        <p:spPr>
          <a:xfrm>
            <a:off x="35712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E:\Мои документы\Анимационные картинки для презентаций. Часть 2\Люди\medical_41.gif"/>
          <p:cNvPicPr/>
          <p:nvPr/>
        </p:nvPicPr>
        <p:blipFill>
          <a:blip r:embed="rId6"/>
          <a:stretch/>
        </p:blipFill>
        <p:spPr>
          <a:xfrm>
            <a:off x="2643120" y="2357280"/>
            <a:ext cx="2000160" cy="2000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E:\Мои документы\Анимационные картинки для презентаций. Часть 2\Люди\ballerina_tanec.gif"/>
          <p:cNvPicPr/>
          <p:nvPr/>
        </p:nvPicPr>
        <p:blipFill>
          <a:blip r:embed="rId7"/>
          <a:stretch/>
        </p:blipFill>
        <p:spPr>
          <a:xfrm>
            <a:off x="5715000" y="2286000"/>
            <a:ext cx="2817720" cy="3429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E:\Мои документы\Анимационные картинки для презентаций. Часть 2\Люди\повар.gif"/>
          <p:cNvPicPr/>
          <p:nvPr/>
        </p:nvPicPr>
        <p:blipFill>
          <a:blip r:embed="rId8"/>
          <a:stretch/>
        </p:blipFill>
        <p:spPr>
          <a:xfrm>
            <a:off x="2928960" y="4500720"/>
            <a:ext cx="1000080" cy="1984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E:\Мои документы\Анимационные картинки для презентаций. Часть 2\Люди\почтальон.gif"/>
          <p:cNvPicPr/>
          <p:nvPr/>
        </p:nvPicPr>
        <p:blipFill>
          <a:blip r:embed="rId9"/>
          <a:stretch/>
        </p:blipFill>
        <p:spPr>
          <a:xfrm>
            <a:off x="1000080" y="4484520"/>
            <a:ext cx="1357200" cy="21844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ь рынка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первых, товар – услуги труда, предлагаемый на этом рынке, весьма неоднороде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-вторых, ценой труда является ставка заработанной платы, которая менее подвижна, чем цены на другие товары, и от ее уровня зависят условия жизни гражда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-третьих, отношения работодателя и наемного работника, как отношения господства и подчинения, всегда порождают противоречия и бор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г"/>
          <p:cNvPicPr/>
          <p:nvPr/>
        </p:nvPicPr>
        <p:blipFill>
          <a:blip r:embed="rId1"/>
          <a:stretch/>
        </p:blipFill>
        <p:spPr>
          <a:xfrm>
            <a:off x="2928960" y="593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г"/>
          <p:cNvPicPr/>
          <p:nvPr/>
        </p:nvPicPr>
        <p:blipFill>
          <a:blip r:embed="rId2"/>
          <a:stretch/>
        </p:blipFill>
        <p:spPr>
          <a:xfrm>
            <a:off x="4429080" y="592128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нок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ироком смысле  — система социально-экономических и юридических отношений в обществе,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норм и институ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ризванных обеспечить нормальный непрерывный процесс воспроизводства рабочей силы и эффективное использование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у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г"/>
          <p:cNvPicPr/>
          <p:nvPr/>
        </p:nvPicPr>
        <p:blipFill>
          <a:blip r:embed="rId3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г"/>
          <p:cNvPicPr/>
          <p:nvPr/>
        </p:nvPicPr>
        <p:blipFill>
          <a:blip r:embed="rId4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шения на рынке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ются общественными и государственным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институ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отношения противоречивы в силу действия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законов спроса и пред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обмена устанавливается состояние их временного равновесия, которое выражается определенным уровнем занятости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оплатой тру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г"/>
          <p:cNvPicPr/>
          <p:nvPr/>
        </p:nvPicPr>
        <p:blipFill>
          <a:blip r:embed="rId4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г"/>
          <p:cNvPicPr/>
          <p:nvPr/>
        </p:nvPicPr>
        <p:blipFill>
          <a:blip r:embed="rId5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рос на рабочую си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условиях свободно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нкурен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ируется под влиянием двух основных показателей: реальной заработной пл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тоимости предельного продукта труда (продукта труда, произведенного последним нанятым работник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е труда прямо зависит от уровня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ше зарплата, тем выше уровень предложения рабочей си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г"/>
          <p:cNvPicPr/>
          <p:nvPr/>
        </p:nvPicPr>
        <p:blipFill>
          <a:blip r:embed="rId2"/>
          <a:stretch/>
        </p:blipFill>
        <p:spPr>
          <a:xfrm>
            <a:off x="3851280" y="5661000"/>
            <a:ext cx="927000" cy="927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г"/>
          <p:cNvPicPr/>
          <p:nvPr/>
        </p:nvPicPr>
        <p:blipFill>
          <a:blip r:embed="rId3"/>
          <a:stretch/>
        </p:blipFill>
        <p:spPr>
          <a:xfrm>
            <a:off x="5219640" y="566100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10:52Z</dcterms:created>
  <dc:creator>Loner-XP</dc:creator>
  <dc:description/>
  <dc:language>en-US</dc:language>
  <cp:lastModifiedBy>LEGION</cp:lastModifiedBy>
  <dcterms:modified xsi:type="dcterms:W3CDTF">2015-01-05T09:49:40Z</dcterms:modified>
  <cp:revision>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50300207f7000400038000</vt:lpwstr>
  </property>
</Properties>
</file>